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93F-E76F-4828-96CF-5E2E03C1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395-4C2A-4017-B6FA-3A7AABB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C00-DC06-4072-89B2-A386C8A6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896-6EBD-431A-949C-2088C0A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ACB-040C-4B38-9EBE-AE710A99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84AA-C8BF-4B9F-B72D-74149799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A36F-B527-442D-91C8-2A20110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DAE-CDA0-4636-B61D-9126B36A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79E-947D-46E0-BE43-1105B5FC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1D90-6C45-4C28-B80D-1EB73E3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BBA-F5AC-4E06-9F1E-D9C6F12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08F-2927-41A7-8ECA-1D43B820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05A-4D27-48BD-AF7C-1B54586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6DCF-EB76-4008-A1B8-A6E5D18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3EA4-5B1D-4919-A7B0-E3F054E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236-FB78-4EBC-80A4-CE35C0E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D5FF-6695-4126-8266-3F531ED4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555C-E57A-43D0-B6E6-787F4CE5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4350-A420-4722-87F2-D4CD8A6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1B27-A8F3-40F3-912E-D3B1B92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BA55-093A-48CC-9939-42533BBD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4A7B-CE70-4D1D-AB36-1D2A4DB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CD5-4A39-4189-89B4-01C485C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BC94-0EEB-4B1F-BED8-B302FEE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C6F1-CB24-486E-9CD6-DB4CE37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B515-2C97-4D73-B4E9-1635B2A5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BF1C-80D5-4970-B78E-A3CACF9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AF9C-0268-4356-A0B3-CC933D1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217A-376A-46F5-A921-FBD6A180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52DA-7C52-41B3-A2FC-A8DD4B8A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ACD1B-D2A6-441C-9836-FB65D876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0C4F-223C-43A6-AA5C-23A927DE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BCD7-8981-4F1C-952B-F8AA6CAF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DE8-F259-4B65-B96C-EFC6D95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9762-45AC-4D18-9094-39F6A0DE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8C03-D1B0-42AB-B32A-051528D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CD18-9C1A-4A74-A060-97121CE2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D279-5D65-4D88-8CFD-C0C7B0F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7C29-2E3C-4FB4-8156-A89CA88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F29B-6B0E-4AAC-B57C-F100DDA1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B5D9-AEA5-455E-8414-6E38E35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CBF7-7CCF-4B7D-8224-92914A99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53ED-2F40-48E5-BA44-93691DA5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8838-BD43-429A-9DAA-0812A6F0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E6C-FF41-4AA9-BC1D-0B6B8AB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4A8A-6E37-4EA4-8D69-EC4EFDC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6087-28E6-4556-ACBE-0ED54AB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9A4D-F3DF-4CBC-846E-707EF14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AC86-ED23-4A8C-B386-FB68324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F52A-7987-4188-899B-708DE3C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2406-59D7-4E46-9276-A2C3875D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D099-72E9-4332-91A5-FF259B0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1D49-375E-465D-BD6E-B28EE15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8F9E-3B9F-4495-B8F2-D54AB25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4C06-C51B-45DD-BCFC-FACFEF57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D12-49D1-42D2-BC4B-B7A72163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6969-5627-46C9-987D-BA589E7E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96A-6BED-4F94-B90E-D2EEA0F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90D-4830-4CE5-B6D2-4E484BC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FAF-CA1B-45E1-95E0-A2F1AD7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DE1-A716-41E6-829D-025F7D2E1218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98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574F-7E06-465C-841D-761E08F3E82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C061-B5BA-4EF2-8AF5-901FBC253252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152-A6F8-4CC9-A69F-641D8592A64F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FAA3-19F1-4CD6-A8FC-C838BF2463D6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53880" y="781200"/>
            <a:ext cx="8656920" cy="1869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929120" y="2428920"/>
            <a:ext cx="21798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42920" y="357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000"/>
                </a:solidFill>
                <a:uFillTx/>
                <a:latin typeface="Trebuchet MS"/>
              </a:rPr>
              <a:t>Основополагающий вопрос:</a:t>
            </a:r>
            <a:endParaRPr b="0" lang="en-US" sz="44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357120" y="2214720"/>
            <a:ext cx="700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Trebuchet MS"/>
              </a:rPr>
              <a:t>Зачем изучают логарифмы в школе? </a:t>
            </a:r>
            <a:endParaRPr b="0" lang="en-US" sz="5400" spc="-1" strike="noStrike">
              <a:solidFill>
                <a:srgbClr val="ff388c"/>
              </a:solidFill>
              <a:latin typeface="Arial"/>
            </a:endParaRPr>
          </a:p>
        </p:txBody>
      </p:sp>
      <p:pic>
        <p:nvPicPr>
          <p:cNvPr id="224" name="Picture 4" descr="image009"/>
          <p:cNvPicPr/>
          <p:nvPr/>
        </p:nvPicPr>
        <p:blipFill>
          <a:blip r:embed="rId1"/>
          <a:stretch/>
        </p:blipFill>
        <p:spPr>
          <a:xfrm>
            <a:off x="5572080" y="4071960"/>
            <a:ext cx="1812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500400" y="214200"/>
            <a:ext cx="73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c000"/>
                </a:solidFill>
                <a:uFillTx/>
                <a:latin typeface="Trebuchet MS"/>
              </a:rPr>
              <a:t>Проблемные вопросы:</a:t>
            </a:r>
            <a:endParaRPr b="0" lang="en-US" sz="54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57120" y="121428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rebuchet MS"/>
              </a:rPr>
              <a:t>Почему логарифмы нужны современному человеку?</a:t>
            </a:r>
            <a:endParaRPr b="0" lang="en-US" sz="4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rebuchet MS"/>
              </a:rPr>
              <a:t>Достаточно ли тех знаний о логарифмах, которые мы получаем в школе?</a:t>
            </a:r>
            <a:endParaRPr b="0" lang="en-US" sz="48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676600" cy="264312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328680" y="-176040"/>
            <a:ext cx="7638840" cy="1577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85560" y="1356840"/>
            <a:ext cx="6453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Что можно узнать из истории логарифмов?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Какие знания о логарифмах мы получаем в школе? 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Какое практическое применение логарифмов в различных сферах деятельности человека?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 История возникновения логарифмов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 Знакомство с логарифмами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Логарифмы в искусстве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Логарифмы в природе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00040" y="5000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rebuchet MS"/>
              </a:rPr>
              <a:t>Исследовательская работа</a:t>
            </a:r>
            <a:endParaRPr b="0" lang="en-US" sz="4000" spc="-1" strike="noStrike">
              <a:solidFill>
                <a:srgbClr val="ff388c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500800" y="4572000"/>
            <a:ext cx="25002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14200" y="142920"/>
            <a:ext cx="857268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ddff"/>
                </a:solidFill>
                <a:latin typeface="Trebuchet MS"/>
              </a:rPr>
              <a:t>Чтобы начать исследование нам надо:</a:t>
            </a:r>
            <a:endParaRPr b="0" lang="en-US" sz="36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1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разбиться на группы, чтобы каждая группа более глубоко исследовала свой вопрос и представила результаты всем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2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наметить сроки для: проведения исследований, поиска необходимой информации,  встреч для анализа и оценивания готовых результатов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3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условиться о способах взаимодействия, общения, оперативной помощи друг другу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4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– публичное представление и обсуждение полученных результатов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72151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571680" y="15001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1f7f7"/>
                </a:solidFill>
                <a:latin typeface="Trebuchet MS"/>
              </a:rPr>
              <a:t>Успехов вам!</a:t>
            </a:r>
            <a:endParaRPr b="0" lang="en-US" sz="72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53:30Z</dcterms:created>
  <dc:creator>Маша</dc:creator>
  <dc:description/>
  <dc:language>en-US</dc:language>
  <cp:lastModifiedBy>Маша</cp:lastModifiedBy>
  <dcterms:modified xsi:type="dcterms:W3CDTF">2010-06-08T13:51:59Z</dcterms:modified>
  <cp:revision>17</cp:revision>
  <dc:subject/>
  <dc:title>Логарифмы вокруг нас</dc:title>
</cp:coreProperties>
</file>